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E2F5-F07A-4362-9DAF-B51D62F2F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BFF6-E4AC-4073-8012-FE1A1ACBA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1A10-02C1-4CE3-BE4D-171012E29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4DC8-0FDE-4568-96BA-C6EDF352CF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70C7-DE29-4836-88E2-FFC64E3126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330D-EF28-4F2F-9B1C-2E8DCF22A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98A7-5267-4161-A8DC-56CCEEFA8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7479-29E0-4AB5-93DA-6173DFC14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5FC7-902C-4B25-B76B-021B59AF0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64D2-A658-4BB7-B558-7C31EB276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46E6-58D2-4157-A01C-2D6630B5D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7F82-22A0-405F-B2C9-5992B9988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BDCA-E80F-4D52-B444-2E7756D13F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reedigitalphotos.net/images/Interiors_g380-Empty_Room_With_Gallery_p82136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esources.curriculum.org/secretariat/coplann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F38-8F88-44C8-938C-D51F1E9B9E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Breakout 6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28951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Connecting our Learning with Different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ryLou Kes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36 km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twelfth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8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seventh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fifth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kilometr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3E7-DFF1-4677-B4BB-4D5EB73D4C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mathematical learning to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F8D9-42BF-4D95-875C-1FD8F8B707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900057318.WMF"/>
          <p:cNvPicPr/>
          <p:nvPr/>
        </p:nvPicPr>
        <p:blipFill>
          <a:blip r:embed="rId1"/>
          <a:stretch/>
        </p:blipFill>
        <p:spPr>
          <a:xfrm>
            <a:off x="4876920" y="2286000"/>
            <a:ext cx="2663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 at your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did we engage in as we solved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trategies surfaced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solutions lead to emergent thinking about multiplication and division of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4C2F-9F2D-44E9-8578-8EE13D1848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 number line an effective model for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ls did you notice in the gallery wal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37EB-391D-4F06-AEF6-669B1FB7B4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 Questions con’t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engage students in a contextual problem that leads to multiplicative thinking as related to fractions and to considering division of fractions prior to teaching algorithms for these oper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880D-E341-4DD5-BED2-EE0C7102AD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9C27-2BF7-468A-BA99-A1D89EB8BB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616200" y="838080"/>
            <a:ext cx="5527800" cy="6019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609480" y="1676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 from Cath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A8EC-F263-4542-B831-449612E7B9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56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– Possible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A9E5-AF01-4328-9C21-DD3D87903A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6600" y="1676520"/>
            <a:ext cx="90774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6B3E-7D2B-4A70-98A7-1756064888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8748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dden Slide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1926-E6E5-49E5-8CEF-8177DC664E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386712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903840" y="304920"/>
            <a:ext cx="524016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rthday Budd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he people who have the same birthday month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p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a 0 – 4 number line and som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4E92-25EE-4D8A-B26A-6035F9742A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F225-8E5C-4427-A870-4D617C0A4B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rdering and 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fractions on your number 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2,   3/4,   5/6,   3 3/4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4,   16/4,   15/5,    3 3/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6,   1 1/2,   1 5/10,   2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FC23-267F-43D8-9F68-A8571CCC0C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 /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7880-3E2C-4679-8D9E-5EB64DD22A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c95711.r11.cf3.rackcdn.com/Gallery_The_picture_blue_w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523880"/>
            <a:ext cx="541008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Preview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llow ALL students  (including those with specific LDs) access to the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2336-AAEA-40EC-9387-419896B0A2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H900434799.JPG"/>
          <p:cNvPicPr/>
          <p:nvPr/>
        </p:nvPicPr>
        <p:blipFill>
          <a:blip r:embed="rId1"/>
          <a:stretch/>
        </p:blipFill>
        <p:spPr>
          <a:xfrm>
            <a:off x="5486400" y="-83808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286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S The Three Part Lesson in Mathematic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orting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sources.curriculum.org/secretariat/coplann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 The Classroo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A3A6-D7B1-4232-847B-F7507F23E9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unpack key understandings about fr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ys does the problem allow ALL students  (including those with specific LDs) access to the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the teacher’s questi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 about student representations and dialog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155D-C99E-4001-989C-382AF4DC1F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unning for Fun</a:t>
            </a:r>
            <a:br>
              <a:rPr sz="4400"/>
            </a:br>
            <a:r>
              <a:rPr b="0" lang="en-US" sz="2400" spc="-1" strike="noStrike">
                <a:solidFill>
                  <a:srgbClr val="2b5ca9"/>
                </a:solidFill>
                <a:latin typeface="Arial"/>
              </a:rPr>
              <a:t>Cathy Fosnot; </a:t>
            </a:r>
            <a:r>
              <a:rPr b="0" i="1" lang="en-US" sz="2400" spc="-1" strike="noStrike">
                <a:solidFill>
                  <a:srgbClr val="2b5ca9"/>
                </a:solidFill>
                <a:latin typeface="Arial"/>
              </a:rPr>
              <a:t>Contexts for Learning Mathematics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tory problem to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14DB-B9B6-4C69-A9D2-EB4932CBFB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P900424397.JPG"/>
          <p:cNvPicPr/>
          <p:nvPr/>
        </p:nvPicPr>
        <p:blipFill>
          <a:blip r:embed="rId1"/>
          <a:stretch/>
        </p:blipFill>
        <p:spPr>
          <a:xfrm>
            <a:off x="3429000" y="2362320"/>
            <a:ext cx="491508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tails – 26 mile ra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rkers every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route’s tota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8 water stations equally spaced along the way and the last is at the finis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year Rachel and Mark both ran 1/2 of the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 Rachel knows she ran 7/12 of the route because she counted the markers and stopped at th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ran to the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miles did they run and how much further did they run compared to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CB05-5FA2-4604-90EF-6BD95D2122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55:20Z</dcterms:created>
  <dc:creator>CSC</dc:creator>
  <dc:description/>
  <dc:language>en-US</dc:language>
  <cp:lastModifiedBy>Kathy Kubota-Zarivnij</cp:lastModifiedBy>
  <dcterms:modified xsi:type="dcterms:W3CDTF">2012-08-23T15:34:21Z</dcterms:modified>
  <cp:revision>43</cp:revision>
  <dc:subject/>
  <dc:title>&lt;Title&gt;</dc:title>
</cp:coreProperties>
</file>